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706f6e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3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792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6f6e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706f6e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03240" y="471456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5"/>
          </p:nvPr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B0CA-C2F1-4B2F-B2F4-3A50D00AA80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E6FD-EB6B-4FCC-8769-AB5EAD06D97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31920" y="307800"/>
            <a:ext cx="6119640" cy="45896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19040" y="5245200"/>
            <a:ext cx="5918400" cy="36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4360" y="327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040" y="112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4360" y="327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7040" y="327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2360" y="112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0000" y="112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4360" y="327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2360" y="327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0000" y="327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06f6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040" y="112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06f6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12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4360" y="327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06f6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12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7040" y="327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040" y="112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360" y="327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4360" y="327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040" y="112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4360" y="327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7040" y="327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2360" y="112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0000" y="112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4360" y="327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2360" y="327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0000" y="327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040" y="112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06f6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12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4360" y="327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12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7040" y="327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040" y="112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360" y="327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5562720" cy="71604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06f6e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543640" y="0"/>
            <a:ext cx="2286000" cy="716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06f6e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b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4d4b4a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b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4d4b4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b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47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b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4c71a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b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706f6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b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706f6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b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6f6e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48000" y="1364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706f6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760" y="136440"/>
            <a:ext cx="6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&gt;</a:t>
            </a:r>
            <a:endParaRPr b="0" lang="en-US" sz="3200" spc="-1" strike="noStrike">
              <a:solidFill>
                <a:srgbClr val="706f6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25560" y="627120"/>
            <a:ext cx="772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706f6e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758000" y="125280"/>
            <a:ext cx="1219320" cy="784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2"/>
          </p:nvPr>
        </p:nvSpPr>
        <p:spPr>
          <a:xfrm>
            <a:off x="1522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06f6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06f6e"/>
                </a:solidFill>
                <a:latin typeface="Arial"/>
              </a:rPr>
              <a:t>&lt;date/time&gt;</a:t>
            </a:r>
            <a:r>
              <a:rPr b="0" lang="en-US" sz="900" spc="-1" strike="noStrike">
                <a:solidFill>
                  <a:srgbClr val="706f6e"/>
                </a:solidFill>
                <a:latin typeface="Arial"/>
              </a:rPr>
              <a:t>© DSAG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14400"/>
            <a:ext cx="2803680" cy="2298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743040" indent="-285840" algn="ctr">
              <a:lnSpc>
                <a:spcPct val="80000"/>
              </a:lnSpc>
              <a:spcBef>
                <a:spcPts val="425"/>
              </a:spcBef>
              <a:buClr>
                <a:srgbClr val="f76013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6f6e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228600" y="685800"/>
            <a:ext cx="0" cy="6172200"/>
          </a:xfrm>
          <a:prstGeom prst="line">
            <a:avLst/>
          </a:prstGeom>
          <a:ln w="3240">
            <a:solidFill>
              <a:srgbClr val="706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06f6e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15200" y="5675400"/>
            <a:ext cx="1401840" cy="901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84680" y="533520"/>
            <a:ext cx="155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ff33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706f6e"/>
                </a:solidFill>
                <a:latin typeface="Arial Black"/>
              </a:rPr>
              <a:t> Erfahrungsaustausch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11680" y="533520"/>
            <a:ext cx="11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ff33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706f6e"/>
                </a:solidFill>
                <a:latin typeface="Arial Black"/>
              </a:rPr>
              <a:t> Einflussnahme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0120" y="533520"/>
            <a:ext cx="84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ff33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706f6e"/>
                </a:solidFill>
                <a:latin typeface="Arial Black"/>
              </a:rPr>
              <a:t> Netzwerk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762280" y="3971520"/>
            <a:ext cx="582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6f6e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706f6e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0" y="-228600"/>
            <a:ext cx="5562720" cy="0"/>
          </a:xfrm>
          <a:prstGeom prst="line">
            <a:avLst/>
          </a:prstGeom>
          <a:ln w="3240">
            <a:solidFill>
              <a:srgbClr val="706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706f6e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771640" y="907920"/>
            <a:ext cx="6372360" cy="2305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6f6e"/>
                </a:solidFill>
                <a:latin typeface="Arial Black"/>
              </a:rPr>
              <a:t>Click to edit the outline text format</a:t>
            </a:r>
            <a:endParaRPr b="0" lang="en-US" sz="1400" spc="-1" strike="noStrike">
              <a:solidFill>
                <a:srgbClr val="706f6e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b4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4d4b4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b4a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3" marL="1333440" algn="ctr">
              <a:spcBef>
                <a:spcPts val="349"/>
              </a:spcBef>
              <a:buClr>
                <a:srgbClr val="00347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47a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47a"/>
              </a:solidFill>
              <a:latin typeface="Arial"/>
            </a:endParaRPr>
          </a:p>
          <a:p>
            <a:pPr lvl="4" marL="1752480" algn="ctr">
              <a:spcBef>
                <a:spcPts val="300"/>
              </a:spcBef>
              <a:buClr>
                <a:srgbClr val="4c71a2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71a2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4c71a2"/>
              </a:solidFill>
              <a:latin typeface="Arial"/>
            </a:endParaRPr>
          </a:p>
          <a:p>
            <a:pPr lvl="5" marL="1752480">
              <a:spcBef>
                <a:spcPts val="300"/>
              </a:spcBef>
              <a:buClr>
                <a:srgbClr val="706f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71a2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4c71a2"/>
              </a:solidFill>
              <a:latin typeface="Arial"/>
            </a:endParaRPr>
          </a:p>
          <a:p>
            <a:pPr lvl="6" marL="1752480">
              <a:spcBef>
                <a:spcPts val="300"/>
              </a:spcBef>
              <a:buClr>
                <a:srgbClr val="706f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71a2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4c71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publib.boulder.ibm.com/infocenter/db2luw/v8/index.jsp" TargetMode="External"/><Relationship Id="rId2" Type="http://schemas.openxmlformats.org/officeDocument/2006/relationships/hyperlink" Target="http://publib.boulder.ibm.com/infocenter/db2luw/v9/index.jsp" TargetMode="External"/><Relationship Id="rId3" Type="http://schemas.openxmlformats.org/officeDocument/2006/relationships/hyperlink" Target="http://www.idug.org/" TargetMode="External"/><Relationship Id="rId4" Type="http://schemas.openxmlformats.org/officeDocument/2006/relationships/hyperlink" Target="http://www.idug.org/" TargetMode="External"/><Relationship Id="rId5" Type="http://schemas.openxmlformats.org/officeDocument/2006/relationships/hyperlink" Target="http://www.idug.org/" TargetMode="External"/><Relationship Id="rId6" Type="http://schemas.openxmlformats.org/officeDocument/2006/relationships/hyperlink" Target="http://www.idug.org/" TargetMode="External"/><Relationship Id="rId7" Type="http://schemas.openxmlformats.org/officeDocument/2006/relationships/hyperlink" Target="http://www.idug.org/" TargetMode="External"/><Relationship Id="rId8" Type="http://schemas.openxmlformats.org/officeDocument/2006/relationships/hyperlink" Target="http://www.idug.org/" TargetMode="External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700360" y="3284640"/>
            <a:ext cx="597708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ff66"/>
                </a:solidFill>
                <a:latin typeface="Arial"/>
              </a:rPr>
              <a:t>DSAG-Technologietage 2007</a:t>
            </a:r>
            <a:endParaRPr b="0" lang="en-US" sz="3200" spc="-1" strike="noStrike">
              <a:solidFill>
                <a:srgbClr val="706f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706f6e"/>
                </a:solidFill>
                <a:latin typeface="Arial"/>
              </a:rPr>
              <a:t>Stefan Krämer</a:t>
            </a:r>
            <a:endParaRPr b="0" lang="en-US" sz="2800" spc="-1" strike="noStrike">
              <a:solidFill>
                <a:srgbClr val="706f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06f6e"/>
                </a:solidFill>
                <a:latin typeface="Arial"/>
              </a:rPr>
              <a:t>DB2 und SAP Basis Consultant</a:t>
            </a:r>
            <a:endParaRPr b="0" lang="en-US" sz="2800" spc="-1" strike="noStrike">
              <a:solidFill>
                <a:srgbClr val="706f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24/7 Betrieb?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Online reorgs – wenige Locks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INPLACE nur mit NOTRUNCATE TABLE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Tabellen werden nur zeitweise benutzt?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Traditioneller Reorg kann benutzt werden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MDC oder LOB's oder LONG VARCHAR?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Traditioneller Reorg muss benutzt werden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System Catalog Tabelle?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Traditioneller Reorg, z.B. direkt nach DB2 Fixpack installationen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Möglichkeiten - Keep it sim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B2 V9 Compression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On the fly für neue Daten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Traditioneller Reorg für existierende Daten nötig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B2 V9 LRID Aktivierung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Vollständiger Index Reorg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Table reorg für large slot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Möglichkeiten - Keep it sim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Traditionelle Reorgs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Platz zurückgewinnen – leere Tabelle:</a:t>
            </a:r>
            <a:br>
              <a:rPr sz="2000"/>
            </a:b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b2 reorg table ...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Falls die Tabelle Daten beinhaltet – Freiplatz sicherstellen</a:t>
            </a:r>
            <a:br>
              <a:rPr sz="2000"/>
            </a:b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b2 get snapshot for tablespaces on SID</a:t>
            </a:r>
            <a:br>
              <a:rPr sz="2000"/>
            </a:b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Ggf. Filesysteme des SMS temp tablespaces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Platz zurückgewinnen – Tabelle mit Daten:</a:t>
            </a:r>
            <a:br>
              <a:rPr sz="2000"/>
            </a:b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b2 reorg table ... falls in den gleichen Tablespace reorganisiert werden soll oder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b2 reorg table ... use PSAPTEMP ... falls über einen temporären Tablespace reorganisiert werden soll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b2 reorg table ... LONGLOBDATA... mit oder ohne temp TS, falls LOBs, LONG VARCHARs reorganisiert werden sollen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öglichkeit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Index Reorgs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F7/F8 aufräumen:</a:t>
            </a:r>
            <a:br>
              <a:rPr sz="2000"/>
            </a:b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b2 reorg index ... CLEANUP ONLY ALL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F5/F6 verbessern, aber Laufzeit, Freiplatz und Locks beachten: </a:t>
            </a:r>
            <a:br>
              <a:rPr sz="2000"/>
            </a:b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b2 reorg index ...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F4 verbessern ??? -&gt; Table Reorg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öglichkeit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Inplace Table Reorgs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Bis heute – DB2 V8 FP14 &amp; DB2 V9 FP1 – keine "truncating inplace table reorgs" auf grösseren Tabellen benutzen. Table Locks während der "Truncation Phase" können die Laufzeit von traditionellen Reorgs überschreiten.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Tabelleninhalt komprimieren:</a:t>
            </a:r>
            <a:br>
              <a:rPr sz="2000"/>
            </a:b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b2 reorg table ... INPLACE NOTRUNCATE TABLE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Index F4 verbessern ??? </a:t>
            </a:r>
            <a:br>
              <a:rPr sz="2000"/>
            </a:b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b2 reorg table ... INPLACE NOTRUNCATE TABLE INDEX ....</a:t>
            </a:r>
            <a:br>
              <a:rPr sz="2000"/>
            </a:b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en wichtigsten Index der Tabelle zuvor definieren.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Für Tabellen mit wenig Inhalt und viel Freiplatz kann die Laufzeit sehr stark varieren, abhängig von der INDEX Klausel.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öglichkeit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Alternativer Reorg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b4a"/>
                </a:solidFill>
                <a:latin typeface="Arial"/>
              </a:rPr>
              <a:t>Neuaufbau durch Table Moves in neue Tablespace, z.B.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b4a"/>
                </a:solidFill>
                <a:latin typeface="Arial"/>
              </a:rPr>
              <a:t>ICNV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b4a"/>
                </a:solidFill>
                <a:latin typeface="Arial"/>
              </a:rPr>
              <a:t>DB6CONV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b4a"/>
                </a:solidFill>
                <a:latin typeface="Arial"/>
              </a:rPr>
              <a:t>SAP/IBM stored procedure for online table moves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b4a"/>
                </a:solidFill>
                <a:latin typeface="Arial"/>
              </a:rPr>
              <a:t>Eigene Tools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b4a"/>
                </a:solidFill>
                <a:latin typeface="Arial"/>
              </a:rPr>
              <a:t>Diese Möglichkeiten können auch genutzt werden um Tablespace HWM Probleme zu beseitigen, speziell in BW Systemen.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Weitere Alternativen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b4a"/>
                </a:solidFill>
                <a:latin typeface="Arial"/>
              </a:rPr>
              <a:t>DB2 Automatic Reorg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b4a"/>
                </a:solidFill>
                <a:latin typeface="Arial"/>
              </a:rPr>
              <a:t>SAP Automatic Reorg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b4a"/>
                </a:solidFill>
                <a:latin typeface="Arial"/>
              </a:rPr>
              <a:t>Die Methoden von SAP und IBM ändern sich ggf. von Version zu Version.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b4a"/>
                </a:solidFill>
                <a:latin typeface="Arial"/>
              </a:rPr>
              <a:t>Prüfen Sie genau, ob diese Ihren Anforderungen genügt.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öglichkeit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wendung - Unsicher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b4a"/>
                </a:solidFill>
                <a:latin typeface="Arial"/>
              </a:rPr>
              <a:t>Unsicher wegen der aktuellen Tabellengrösse?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4d4b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b4a"/>
                </a:solidFill>
                <a:latin typeface="Arial"/>
              </a:rPr>
              <a:t>Statistiken nochmal aktualisieren:</a:t>
            </a:r>
            <a:br>
              <a:rPr sz="2000"/>
            </a:br>
            <a:r>
              <a:rPr b="0" lang="en-US" sz="2000" spc="-1" strike="noStrike">
                <a:solidFill>
                  <a:srgbClr val="4d4b4a"/>
                </a:solidFill>
                <a:latin typeface="Arial"/>
              </a:rPr>
              <a:t>db2 reorgchk update statistiks</a:t>
            </a:r>
            <a:br>
              <a:rPr sz="2000"/>
            </a:br>
            <a:r>
              <a:rPr b="0" lang="en-US" sz="2000" spc="-1" strike="noStrike">
                <a:solidFill>
                  <a:srgbClr val="4d4b4a"/>
                </a:solidFill>
                <a:latin typeface="Arial"/>
              </a:rPr>
              <a:t>Vorzugsweise das Standard Tool benutzen (z.B. SAP Tools), um immer die gleichen Statistiken (z.B. distribution statistics) zu erzeugen.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4d4b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b4a"/>
                </a:solidFill>
                <a:latin typeface="Arial"/>
              </a:rPr>
              <a:t>Der Table Snapshot kann die physikalische Grösse einschliesslich LOBs und LONG Objekten anzeigen:</a:t>
            </a:r>
            <a:br>
              <a:rPr sz="2000"/>
            </a:br>
            <a:r>
              <a:rPr b="0" lang="en-US" sz="2000" spc="-1" strike="noStrike">
                <a:solidFill>
                  <a:srgbClr val="4d4b4a"/>
                </a:solidFill>
                <a:latin typeface="Arial"/>
              </a:rPr>
              <a:t>db2 get snapshot for tables on $sid | grep –p &lt;TABLENAME&gt;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b4a"/>
                </a:solidFill>
                <a:latin typeface="Arial monospaced for SAP"/>
              </a:rPr>
              <a:t>db2 get snapshot for tables on $sid at dbpartitionnum 1</a:t>
            </a:r>
            <a:endParaRPr b="0" lang="en-US" sz="1400" spc="-1" strike="noStrike">
              <a:solidFill>
                <a:srgbClr val="4d4b4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b4a"/>
                </a:solidFill>
                <a:latin typeface="Arial monospaced for SAP"/>
              </a:rPr>
              <a:t> </a:t>
            </a:r>
            <a:r>
              <a:rPr b="0" lang="en-US" sz="1400" spc="-1" strike="noStrike">
                <a:solidFill>
                  <a:srgbClr val="4d4b4a"/>
                </a:solidFill>
                <a:latin typeface="Arial monospaced for SAP"/>
              </a:rPr>
              <a:t>Table Schema        = SAPR3</a:t>
            </a:r>
            <a:endParaRPr b="0" lang="en-US" sz="1400" spc="-1" strike="noStrike">
              <a:solidFill>
                <a:srgbClr val="4d4b4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b4a"/>
                </a:solidFill>
                <a:latin typeface="Arial monospaced for SAP"/>
              </a:rPr>
              <a:t> </a:t>
            </a:r>
            <a:r>
              <a:rPr b="0" lang="en-US" sz="1400" spc="-1" strike="noStrike">
                <a:solidFill>
                  <a:srgbClr val="4d4b4a"/>
                </a:solidFill>
                <a:latin typeface="Arial monospaced for SAP"/>
              </a:rPr>
              <a:t>Table Name          = /BIC/AYGTFC00100</a:t>
            </a:r>
            <a:endParaRPr b="0" lang="en-US" sz="1400" spc="-1" strike="noStrike">
              <a:solidFill>
                <a:srgbClr val="4d4b4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b4a"/>
                </a:solidFill>
                <a:latin typeface="Arial monospaced for SAP"/>
              </a:rPr>
              <a:t> </a:t>
            </a:r>
            <a:r>
              <a:rPr b="0" lang="en-US" sz="1400" spc="-1" strike="noStrike">
                <a:solidFill>
                  <a:srgbClr val="4d4b4a"/>
                </a:solidFill>
                <a:latin typeface="Arial monospaced for SAP"/>
              </a:rPr>
              <a:t>Data Object Pages   = 5257254</a:t>
            </a:r>
            <a:endParaRPr b="0" lang="en-US" sz="1400" spc="-1" strike="noStrike">
              <a:solidFill>
                <a:srgbClr val="4d4b4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b4a"/>
                </a:solidFill>
                <a:latin typeface="Arial monospaced for SAP"/>
              </a:rPr>
              <a:t> </a:t>
            </a:r>
            <a:r>
              <a:rPr b="0" lang="en-US" sz="1400" spc="-1" strike="noStrike">
                <a:solidFill>
                  <a:srgbClr val="4d4b4a"/>
                </a:solidFill>
                <a:latin typeface="Arial monospaced for SAP"/>
              </a:rPr>
              <a:t>Index Object Pages  = 323383</a:t>
            </a:r>
            <a:endParaRPr b="0" lang="en-US" sz="1400" spc="-1" strike="noStrike">
              <a:solidFill>
                <a:srgbClr val="4d4b4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b4a"/>
                </a:solidFill>
                <a:latin typeface="Arial monospaced for SAP"/>
              </a:rPr>
              <a:t> </a:t>
            </a:r>
            <a:r>
              <a:rPr b="0" lang="en-US" sz="1400" spc="-1" strike="noStrike">
                <a:solidFill>
                  <a:srgbClr val="4d4b4a"/>
                </a:solidFill>
                <a:latin typeface="Arial monospaced for SAP"/>
              </a:rPr>
              <a:t>Rows Read           = 54123690</a:t>
            </a:r>
            <a:endParaRPr b="0" lang="en-US" sz="1400" spc="-1" strike="noStrike">
              <a:solidFill>
                <a:srgbClr val="4d4b4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b4a"/>
                </a:solidFill>
                <a:latin typeface="Arial monospaced for SAP"/>
              </a:rPr>
              <a:t> </a:t>
            </a:r>
            <a:r>
              <a:rPr b="0" lang="en-US" sz="1400" spc="-1" strike="noStrike">
                <a:solidFill>
                  <a:srgbClr val="4d4b4a"/>
                </a:solidFill>
                <a:latin typeface="Arial monospaced for SAP"/>
              </a:rPr>
              <a:t>Rows Written        = 2686083</a:t>
            </a:r>
            <a:endParaRPr b="0" lang="en-US" sz="1400" spc="-1" strike="noStrike">
              <a:solidFill>
                <a:srgbClr val="4d4b4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b4a"/>
                </a:solidFill>
                <a:latin typeface="Arial monospaced for SAP"/>
              </a:rPr>
              <a:t> </a:t>
            </a:r>
            <a:r>
              <a:rPr b="0" lang="en-US" sz="1400" spc="-1" strike="noStrike">
                <a:solidFill>
                  <a:srgbClr val="4d4b4a"/>
                </a:solidFill>
                <a:latin typeface="Arial monospaced for SAP"/>
              </a:rPr>
              <a:t>Overflows           = 0</a:t>
            </a:r>
            <a:endParaRPr b="0" lang="en-US" sz="1400" spc="-1" strike="noStrike">
              <a:solidFill>
                <a:srgbClr val="4d4b4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b4a"/>
                </a:solidFill>
                <a:latin typeface="Arial monospaced for SAP"/>
              </a:rPr>
              <a:t> </a:t>
            </a:r>
            <a:r>
              <a:rPr b="0" lang="en-US" sz="1400" spc="-1" strike="noStrike">
                <a:solidFill>
                  <a:srgbClr val="4d4b4a"/>
                </a:solidFill>
                <a:latin typeface="Arial monospaced for SAP"/>
              </a:rPr>
              <a:t>Page Reorgs         = 9</a:t>
            </a:r>
            <a:endParaRPr b="0" lang="en-US" sz="1400" spc="-1" strike="noStrike">
              <a:solidFill>
                <a:srgbClr val="4d4b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wendung - Unsicher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b4a"/>
                </a:solidFill>
                <a:latin typeface="Arial"/>
              </a:rPr>
              <a:t>Unsicher wegen möglicher Locks?</a:t>
            </a:r>
            <a:r>
              <a:rPr b="0" lang="en-US" sz="2400" spc="-1" strike="noStrike">
                <a:solidFill>
                  <a:srgbClr val="4d4b4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4d4b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b4a"/>
                </a:solidFill>
                <a:latin typeface="Arial"/>
              </a:rPr>
              <a:t>Testtools benutzen um Updates zu simulieren, Commits verzögern und Locks monitoren.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4d4b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b4a"/>
                </a:solidFill>
                <a:latin typeface="Arial"/>
              </a:rPr>
              <a:t>Umfangreich Testen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4d4b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b4a"/>
                </a:solidFill>
                <a:latin typeface="Arial"/>
              </a:rPr>
              <a:t>SBX-&gt;PRD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b4a"/>
                </a:solidFill>
                <a:latin typeface="Arial"/>
              </a:rPr>
              <a:t>Beispiel um Locks zu monitoren: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b4a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b4a"/>
                </a:solidFill>
                <a:latin typeface="Arial"/>
              </a:rPr>
              <a:t>set -x; while true ; do</a:t>
            </a:r>
            <a:endParaRPr b="0" lang="en-US" sz="1400" spc="-1" strike="noStrike">
              <a:solidFill>
                <a:srgbClr val="4d4b4a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b4a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4d4b4a"/>
                </a:solidFill>
                <a:latin typeface="Arial"/>
              </a:rPr>
              <a:t>date</a:t>
            </a:r>
            <a:endParaRPr b="0" lang="en-US" sz="1400" spc="-1" strike="noStrike">
              <a:solidFill>
                <a:srgbClr val="4d4b4a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b4a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4d4b4a"/>
                </a:solidFill>
                <a:latin typeface="Arial"/>
              </a:rPr>
              <a:t>db2 get snapshot for locks on $sid &gt; /tmp/locks.`date +%Y%m%d%H%M%S`</a:t>
            </a:r>
            <a:endParaRPr b="0" lang="en-US" sz="1400" spc="-1" strike="noStrike">
              <a:solidFill>
                <a:srgbClr val="4d4b4a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b4a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4d4b4a"/>
                </a:solidFill>
                <a:latin typeface="Arial"/>
              </a:rPr>
              <a:t>db6util -sl &gt; /tmp/locksdb6u.`date +%Y%m%d%H%M%S`</a:t>
            </a:r>
            <a:endParaRPr b="0" lang="en-US" sz="1400" spc="-1" strike="noStrike">
              <a:solidFill>
                <a:srgbClr val="4d4b4a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b4a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4d4b4a"/>
                </a:solidFill>
                <a:latin typeface="Arial"/>
              </a:rPr>
              <a:t>sleep 10</a:t>
            </a:r>
            <a:endParaRPr b="0" lang="en-US" sz="1400" spc="-1" strike="noStrike">
              <a:solidFill>
                <a:srgbClr val="4d4b4a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b4a"/>
                </a:solidFill>
                <a:latin typeface="Arial"/>
              </a:rPr>
              <a:t>done</a:t>
            </a:r>
            <a:endParaRPr b="0" lang="en-US" sz="1400" spc="-1" strike="noStrike">
              <a:solidFill>
                <a:srgbClr val="4d4b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b4a"/>
                </a:solidFill>
                <a:latin typeface="Arial"/>
              </a:rPr>
              <a:t>Ausnahmesituationen beachten: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Keine Reorgs in Ausnahmesituationen ausführen – z.B. während massiver Lockwaits.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Falls möglich – nicht während Backups ausführen.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b4a"/>
                </a:solidFill>
                <a:latin typeface="Arial"/>
              </a:rPr>
              <a:t>Locks können eventuell auftreten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b4a"/>
                </a:solidFill>
                <a:latin typeface="Arial"/>
              </a:rPr>
              <a:t>Zurückliegende Fehler hatten Zusammenhänge mit B&amp;R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SYSCAT Reorgs ausserhalb des normalen Betriebs ausführen, z.B. während FixPack Installationen oder Upgrades.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wendung - Ausnah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Online: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b4a"/>
                </a:solidFill>
                <a:latin typeface="Arial"/>
              </a:rPr>
              <a:t>Reorg Indexes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b4a"/>
                </a:solidFill>
                <a:latin typeface="Arial"/>
              </a:rPr>
              <a:t>Reorg Table INPLACE NOTRUNCATE TABLE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Offline: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b4a"/>
                </a:solidFill>
                <a:latin typeface="Arial"/>
              </a:rPr>
              <a:t>Reorg Table (traditional)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b4a"/>
                </a:solidFill>
                <a:latin typeface="Arial"/>
              </a:rPr>
              <a:t>Index reorg is included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Update Statistics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Anmerkungen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Für bessere Performance Index Reorgs priorisieren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ie Laufzeit von Table Reorgs kann auch durch Index Fragmentierung beeinflusst sein. Auch hier ggf. zuerst den Index reorganisieren.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wendung - Reihenfol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b4a"/>
                </a:solidFill>
                <a:latin typeface="Arial"/>
              </a:rPr>
              <a:t>Notwendigkeiten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b4a"/>
                </a:solidFill>
                <a:latin typeface="Arial"/>
              </a:rPr>
              <a:t>Voraussetzungen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b4a"/>
                </a:solidFill>
                <a:latin typeface="Arial"/>
              </a:rPr>
              <a:t>Möglichkeiten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b4a"/>
                </a:solidFill>
                <a:latin typeface="Arial"/>
              </a:rPr>
              <a:t>Einschränkungen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b4a"/>
                </a:solidFill>
                <a:latin typeface="Arial"/>
              </a:rPr>
              <a:t>Benutzerfehler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b4a"/>
                </a:solidFill>
                <a:latin typeface="Arial"/>
              </a:rPr>
              <a:t>Beispiele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b4a"/>
                </a:solidFill>
                <a:latin typeface="Arial"/>
              </a:rPr>
              <a:t>Erfahrungen mit VLDB SAP BW/DB2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Reorgs in DB2 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b4a"/>
                </a:solidFill>
                <a:latin typeface="Arial"/>
              </a:rPr>
              <a:t>Indexe suchen in DB2 V8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d4b4a"/>
                </a:solidFill>
                <a:latin typeface="Arial"/>
              </a:rPr>
              <a:t>80/20 und schnellste Variante:</a:t>
            </a:r>
            <a:endParaRPr b="0" lang="en-US" sz="14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d4b4a"/>
                </a:solidFill>
                <a:latin typeface="Arial"/>
              </a:rPr>
              <a:t>Anzeige:</a:t>
            </a:r>
            <a:endParaRPr b="0" lang="en-US" sz="12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d4b4a"/>
                </a:solidFill>
                <a:latin typeface="Arial"/>
              </a:rPr>
              <a:t>db2 "select substr(sct.tabschema,1,20), substr(sct.tabname,1,30), substr(indname,1,20), NLEAF, NUM_EMPTY_LEAFS, (100.0*NUM_EMPTY_LEAFS/NLEAF) from syscat.tables sct, syscat.indexes sci where sct.tabschema = sci.indschema and sct.tabname = sci.tabname and (100.0*NUM_EMPTY_LEAFS/NLEAF) &gt; 5 and NUM_EMPTY_LEAFS &gt; 0 order by nleaf"</a:t>
            </a:r>
            <a:endParaRPr b="0" lang="en-US" sz="12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d4b4a"/>
                </a:solidFill>
                <a:latin typeface="Arial"/>
              </a:rPr>
              <a:t>Nur Tabellennamen:</a:t>
            </a:r>
            <a:endParaRPr b="0" lang="en-US" sz="12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d4b4a"/>
                </a:solidFill>
                <a:latin typeface="Arial"/>
              </a:rPr>
              <a:t>db2 -x "select substr(sct.tabschema,1,20), substr(sct.tabname,1,30), avg(npages), avg(fpages) from syscat.tables sct, syscat.indexes sci where sct.tabschema = sci.indschema and sct.tabname = sci.tabname and (100.0*NUM_EMPTY_LEAFS/NLEAF) &gt; 5 and NUM_EMPTY_LEAFS &gt; 0 and sct.tabschema = 'SAPR3' group by sct.tabschema, sct.tabname" &gt; /tmp/indreo</a:t>
            </a:r>
            <a:endParaRPr b="0" lang="en-US" sz="12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d4b4a"/>
                </a:solidFill>
                <a:latin typeface="Arial"/>
              </a:rPr>
              <a:t>Ab V8 FP9 reorgchk_ix_stats:</a:t>
            </a:r>
            <a:endParaRPr b="0" lang="en-US" sz="14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d4b4a"/>
                </a:solidFill>
                <a:latin typeface="Arial"/>
              </a:rPr>
              <a:t>time db2 "call sysproc.reorgchk_ix_stats('s','$identify_schema')" &gt;/dev/null</a:t>
            </a:r>
            <a:endParaRPr b="0" lang="en-US" sz="12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d4b4a"/>
                </a:solidFill>
                <a:latin typeface="Arial"/>
              </a:rPr>
              <a:t>Beispiel, join zu syscat.tables erlaubt weitere Kriterien, z.B. Tablespace</a:t>
            </a:r>
            <a:endParaRPr b="0" lang="en-US" sz="12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d4b4a"/>
                </a:solidFill>
                <a:latin typeface="Arial"/>
              </a:rPr>
              <a:t>SQLtssc=" and tbspace = '$iselts' "</a:t>
            </a:r>
            <a:endParaRPr b="0" lang="en-US" sz="12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d4b4a"/>
                </a:solidFill>
                <a:latin typeface="Arial"/>
              </a:rPr>
              <a:t>db2 -x "select substr(table_schema, 1, 20), substr(table_name, 1, 30) from session.ix_stats ixs, syscat.tables sct where ixs.table_name = sct.tabname and ixs.table_schema = sct.tabschema and ixs.table_schema &lt;&gt; 'SESSION' $SQLiminsize $SQLimaxsize $SQLtssc and (F5 &lt; 50 or F6 &gt; 100 or f7 &gt; 20 or f8 &gt; 20) and ixs.card &lt;&gt; -1 and f5 &lt;&gt; -1 group by table_schema, table_name" &gt; /tmp/indreo</a:t>
            </a:r>
            <a:endParaRPr b="0" lang="en-US" sz="12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wendung - Beispie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b4a"/>
                </a:solidFill>
                <a:latin typeface="Arial"/>
              </a:rPr>
              <a:t>Tabellen suchen in DB2 V8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b4a"/>
                </a:solidFill>
                <a:latin typeface="Arial"/>
              </a:rPr>
              <a:t>Die einfachste und schnellste Variante: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b2 -x "select substr(tabschema,1,20), substr(tabname,1,30), npages, fpages, (100.0*npages/fpages) from syscat.tables where (100.0*npages/fpages) &lt; 70 and fpages &gt; 10 order by npages" </a:t>
            </a:r>
            <a:br>
              <a:rPr sz="2000"/>
            </a:b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&gt; /tmp/tabreo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b4a"/>
                </a:solidFill>
                <a:latin typeface="Arial"/>
              </a:rPr>
              <a:t>Ab V8 FP9 reorgchk_tb_stats: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time db2 "call sysproc.reorgchk_tb_stats('s','$identify_schema')" &gt;/dev/null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b2 -x "select substr(table_schema,1,20), substr(table_name,1,30), npages, fpages, card, f1, f2, f3 from session.tb_stats tbs where table_schema &lt;&gt; 'SESSION' and ( tbs.f1 &gt; 5 or tbs.f2 &lt; 70 or tbs.f3 &lt; 80 ) order by npages" &gt; /tmp/tabreo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wendung - Beispie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b4a"/>
                </a:solidFill>
                <a:latin typeface="Arial"/>
              </a:rPr>
              <a:t>Neu in DB2 V9 – Tabellen suchen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b4a"/>
                </a:solidFill>
                <a:latin typeface="Arial"/>
              </a:rPr>
              <a:t>Pending large RID's: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4d4b4a"/>
                </a:solidFill>
                <a:latin typeface="Arial"/>
              </a:rPr>
              <a:t>db2 –x "SELECT substr(TABSCHEMA,1,20), substr(TABNAME,1,30) FROM SYSIBMADM.ADMINTABINFO </a:t>
            </a:r>
            <a:br>
              <a:rPr sz="2000"/>
            </a:br>
            <a:r>
              <a:rPr b="0" lang="fr-CH" sz="2000" spc="-1" strike="noStrike">
                <a:solidFill>
                  <a:srgbClr val="4d4b4a"/>
                </a:solidFill>
                <a:latin typeface="Arial"/>
              </a:rPr>
              <a:t>WHERE LARGE_RIDS = 'P' "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4d4b4a"/>
                </a:solidFill>
                <a:latin typeface="Arial"/>
              </a:rPr>
              <a:t>Verbleibende Type-1 indexe: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4d4b4a"/>
                </a:solidFill>
                <a:latin typeface="Arial"/>
              </a:rPr>
              <a:t>db2 "SELECT TABSCHEMA, TABNAME </a:t>
            </a:r>
            <a:br>
              <a:rPr sz="2000"/>
            </a:br>
            <a:r>
              <a:rPr b="0" lang="fr-CH" sz="2000" spc="-1" strike="noStrike">
                <a:solidFill>
                  <a:srgbClr val="4d4b4a"/>
                </a:solidFill>
                <a:latin typeface="Arial"/>
              </a:rPr>
              <a:t>FROM SYSIBMADM.ADMINTABINFO </a:t>
            </a:r>
            <a:br>
              <a:rPr sz="2000"/>
            </a:br>
            <a:r>
              <a:rPr b="0" lang="fr-CH" sz="2000" spc="-1" strike="noStrike">
                <a:solidFill>
                  <a:srgbClr val="4d4b4a"/>
                </a:solidFill>
                <a:latin typeface="Arial"/>
              </a:rPr>
              <a:t>WHERE INDEX_TYPE = 1"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wendung - Beispie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b4a"/>
                </a:solidFill>
                <a:latin typeface="Arial"/>
              </a:rPr>
              <a:t>Quick Syscat Reorg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b2 –x "select substr(tabschema,1,20), substr(tabname,1,40) from syscat.tables where tabschema = 'SYSIBM' and type = 'T' order by tabschema,tabname" &gt; /tmp/systabs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set –x; cat /tmp/systabs | while read sch tab dummy</a:t>
            </a:r>
            <a:br>
              <a:rPr sz="2000"/>
            </a:b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o</a:t>
            </a:r>
            <a:br>
              <a:rPr sz="2000"/>
            </a:b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   time "db2 reorg table $sch.$tab use PSAPTEMP longlobdata" </a:t>
            </a:r>
            <a:br>
              <a:rPr sz="2000"/>
            </a:b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one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wendung - Beispie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b4a"/>
                </a:solidFill>
                <a:latin typeface="Arial"/>
              </a:rPr>
              <a:t>Running a 20+ TB DB2 SAP BW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Systemgrössen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Infrastruktur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Konfiguration (allgemein)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b4a"/>
                </a:solidFill>
                <a:latin typeface="Arial"/>
              </a:rPr>
              <a:t>Bufferpools in DPF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b4a"/>
                </a:solidFill>
                <a:latin typeface="Arial"/>
              </a:rPr>
              <a:t>Zu aggresives Pagecleaning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b4a"/>
                </a:solidFill>
                <a:latin typeface="Arial"/>
              </a:rPr>
              <a:t>MAXLOCKS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Monitoring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Redbook </a:t>
            </a:r>
            <a:r>
              <a:rPr b="0" lang="en-US" sz="2000" spc="-1" strike="noStrike">
                <a:solidFill>
                  <a:srgbClr val="4d4b4a"/>
                </a:solidFill>
                <a:latin typeface="Arial"/>
              </a:rPr>
              <a:t>"Infrastructure Solutions: Design, Management, and Optimization of a 20TB SAP BW Warehouse".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LDB DB2 SAP B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b4a"/>
                </a:solidFill>
                <a:latin typeface="Arial"/>
              </a:rPr>
              <a:t>Weitere Informationen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B2 Information Center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4c71a2"/>
                </a:solidFill>
                <a:uFillTx/>
                <a:latin typeface="Arial"/>
                <a:hlinkClick r:id="rId1"/>
              </a:rPr>
              <a:t>http://publib.boulder.ibm.com/infocenter/db2luw/v8/index.jsp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4c71a2"/>
                </a:solidFill>
                <a:uFillTx/>
                <a:latin typeface="Arial"/>
                <a:hlinkClick r:id="rId2"/>
              </a:rPr>
              <a:t>http://publib.boulder.ibm.com/infocenter/db2luw/v9/index.jsp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IBM Technical Conferences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b4a"/>
                </a:solidFill>
                <a:latin typeface="Arial"/>
              </a:rPr>
              <a:t>Z.B. Reorganization in DB2 UDB for LUW, Mike Winer, 2005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IDUG – International DB2 User Group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4c71a2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2000" spc="-1" strike="noStrike" u="sng">
                <a:solidFill>
                  <a:srgbClr val="4c71a2"/>
                </a:solidFill>
                <a:uFillTx/>
                <a:latin typeface="Arial"/>
                <a:hlinkClick r:id="rId4"/>
              </a:rPr>
              <a:t>www</a:t>
            </a:r>
            <a:r>
              <a:rPr b="0" lang="de-DE" sz="2000" spc="-1" strike="noStrike" u="sng">
                <a:solidFill>
                  <a:srgbClr val="4c71a2"/>
                </a:solidFill>
                <a:uFillTx/>
                <a:latin typeface="Arial"/>
                <a:hlinkClick r:id="rId5"/>
              </a:rPr>
              <a:t>.</a:t>
            </a:r>
            <a:r>
              <a:rPr b="0" lang="de-DE" sz="2000" spc="-1" strike="noStrike" u="sng">
                <a:solidFill>
                  <a:srgbClr val="4c71a2"/>
                </a:solidFill>
                <a:uFillTx/>
                <a:latin typeface="Arial"/>
                <a:hlinkClick r:id="rId6"/>
              </a:rPr>
              <a:t>idug</a:t>
            </a:r>
            <a:r>
              <a:rPr b="0" lang="de-DE" sz="2000" spc="-1" strike="noStrike" u="sng">
                <a:solidFill>
                  <a:srgbClr val="4c71a2"/>
                </a:solidFill>
                <a:uFillTx/>
                <a:latin typeface="Arial"/>
                <a:hlinkClick r:id="rId7"/>
              </a:rPr>
              <a:t>.</a:t>
            </a:r>
            <a:r>
              <a:rPr b="0" lang="de-DE" sz="2000" spc="-1" strike="noStrike" u="sng">
                <a:solidFill>
                  <a:srgbClr val="4c71a2"/>
                </a:solidFill>
                <a:uFillTx/>
                <a:latin typeface="Arial"/>
                <a:hlinkClick r:id="rId8"/>
              </a:rPr>
              <a:t>org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1322280"/>
            <a:ext cx="8207280" cy="49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b4a"/>
                </a:solidFill>
                <a:latin typeface="Arial"/>
              </a:rPr>
              <a:t>Kundenfall 1: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lvl="1" marL="750960" indent="-285840">
              <a:spcBef>
                <a:spcPts val="700"/>
              </a:spcBef>
              <a:buClr>
                <a:srgbClr val="4d4b4a"/>
              </a:buClr>
              <a:buFont typeface="Arial"/>
              <a:buChar char="&gt;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b4a"/>
                </a:solidFill>
                <a:latin typeface="Arial"/>
              </a:rPr>
              <a:t>SAP BW auf der gleichen Hardware</a:t>
            </a:r>
            <a:endParaRPr b="0" lang="en-US" sz="1800" spc="-1" strike="noStrike">
              <a:solidFill>
                <a:srgbClr val="4d4b4a"/>
              </a:solidFill>
              <a:latin typeface="Arial"/>
            </a:endParaRPr>
          </a:p>
          <a:p>
            <a:pPr lvl="1" marL="750960" indent="-285840">
              <a:spcBef>
                <a:spcPts val="700"/>
              </a:spcBef>
              <a:buClr>
                <a:srgbClr val="4d4b4a"/>
              </a:buClr>
              <a:buFont typeface="Arial"/>
              <a:buChar char="&gt;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b4a"/>
                </a:solidFill>
                <a:latin typeface="Arial"/>
              </a:rPr>
              <a:t>DB2 DPF auf 8 Partitionen (8 CPU)</a:t>
            </a:r>
            <a:endParaRPr b="0" lang="en-US" sz="1800" spc="-1" strike="noStrike">
              <a:solidFill>
                <a:srgbClr val="4d4b4a"/>
              </a:solidFill>
              <a:latin typeface="Arial"/>
            </a:endParaRPr>
          </a:p>
          <a:p>
            <a:pPr lvl="1" marL="750960" indent="-285840">
              <a:spcBef>
                <a:spcPts val="700"/>
              </a:spcBef>
              <a:buClr>
                <a:srgbClr val="4d4b4a"/>
              </a:buClr>
              <a:buFont typeface="Arial"/>
              <a:buChar char="&gt;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b4a"/>
                </a:solidFill>
                <a:latin typeface="Arial"/>
              </a:rPr>
              <a:t>Benchmark mit Kundenreports</a:t>
            </a:r>
            <a:endParaRPr b="0" lang="en-US" sz="1800" spc="-1" strike="noStrike">
              <a:solidFill>
                <a:srgbClr val="4d4b4a"/>
              </a:solidFill>
              <a:latin typeface="Arial"/>
            </a:endParaRPr>
          </a:p>
          <a:p>
            <a:pPr lvl="1" marL="750960" indent="-285840">
              <a:spcBef>
                <a:spcPts val="700"/>
              </a:spcBef>
              <a:buClr>
                <a:srgbClr val="4d4b4a"/>
              </a:buClr>
              <a:buFont typeface="Arial"/>
              <a:buChar char="&gt;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b4a"/>
                </a:solidFill>
                <a:latin typeface="Arial"/>
              </a:rPr>
              <a:t>DB2 DPF bis zu 9 mal schneller</a:t>
            </a:r>
            <a:endParaRPr b="0" lang="en-US" sz="1800" spc="-1" strike="noStrike">
              <a:solidFill>
                <a:srgbClr val="4d4b4a"/>
              </a:solidFill>
              <a:latin typeface="Arial"/>
            </a:endParaRPr>
          </a:p>
          <a:p>
            <a:pPr lvl="1" marL="750960" indent="-285840">
              <a:spcBef>
                <a:spcPts val="700"/>
              </a:spcBef>
              <a:buClr>
                <a:srgbClr val="4d4b4a"/>
              </a:buClr>
              <a:buFont typeface="Arial"/>
              <a:buChar char="&gt;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b4a"/>
                </a:solidFill>
                <a:latin typeface="Arial"/>
              </a:rPr>
              <a:t>DB2 DPF durchschnittlich 50% schneller</a:t>
            </a:r>
            <a:endParaRPr b="0" lang="en-US" sz="1800" spc="-1" strike="noStrike">
              <a:solidFill>
                <a:srgbClr val="4d4b4a"/>
              </a:solidFill>
              <a:latin typeface="Arial"/>
            </a:endParaRPr>
          </a:p>
          <a:p>
            <a:pPr lvl="1" marL="750960" indent="-285840">
              <a:spcBef>
                <a:spcPts val="700"/>
              </a:spcBef>
              <a:buClr>
                <a:srgbClr val="4d4b4a"/>
              </a:buClr>
              <a:buFont typeface="Arial"/>
              <a:buChar char="&gt;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b4a"/>
                </a:solidFill>
                <a:latin typeface="Arial"/>
              </a:rPr>
              <a:t>Mit MDC zusätzliche Performancesteigerungen bis zu Faktor 19</a:t>
            </a:r>
            <a:endParaRPr b="0" lang="en-US" sz="1800" spc="-1" strike="noStrike">
              <a:solidFill>
                <a:srgbClr val="4d4b4a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b4a"/>
                </a:solidFill>
                <a:latin typeface="Arial"/>
              </a:rPr>
              <a:t>Kundenfall 2: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lvl="1" marL="750960" indent="-285840">
              <a:spcBef>
                <a:spcPts val="700"/>
              </a:spcBef>
              <a:buClr>
                <a:srgbClr val="4d4b4a"/>
              </a:buClr>
              <a:buFont typeface="Arial"/>
              <a:buChar char="&gt;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b4a"/>
                </a:solidFill>
                <a:latin typeface="Arial"/>
              </a:rPr>
              <a:t>SAP BW auf der gleichen Hardware</a:t>
            </a:r>
            <a:endParaRPr b="0" lang="en-US" sz="1800" spc="-1" strike="noStrike">
              <a:solidFill>
                <a:srgbClr val="4d4b4a"/>
              </a:solidFill>
              <a:latin typeface="Arial"/>
            </a:endParaRPr>
          </a:p>
          <a:p>
            <a:pPr lvl="1" marL="750960" indent="-285840">
              <a:spcBef>
                <a:spcPts val="700"/>
              </a:spcBef>
              <a:buClr>
                <a:srgbClr val="4d4b4a"/>
              </a:buClr>
              <a:buFont typeface="Arial"/>
              <a:buChar char="&gt;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b4a"/>
                </a:solidFill>
                <a:latin typeface="Arial"/>
              </a:rPr>
              <a:t>DB2 DPF auf 6 Partitionen (12 CPU)</a:t>
            </a:r>
            <a:endParaRPr b="0" lang="en-US" sz="1800" spc="-1" strike="noStrike">
              <a:solidFill>
                <a:srgbClr val="4d4b4a"/>
              </a:solidFill>
              <a:latin typeface="Arial"/>
            </a:endParaRPr>
          </a:p>
          <a:p>
            <a:pPr lvl="1" marL="750960" indent="-285840">
              <a:spcBef>
                <a:spcPts val="700"/>
              </a:spcBef>
              <a:buClr>
                <a:srgbClr val="4d4b4a"/>
              </a:buClr>
              <a:buFont typeface="Arial"/>
              <a:buChar char="&gt;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b4a"/>
                </a:solidFill>
                <a:latin typeface="Arial"/>
              </a:rPr>
              <a:t>Benchmark mit Kundenreports</a:t>
            </a:r>
            <a:endParaRPr b="0" lang="en-US" sz="1800" spc="-1" strike="noStrike">
              <a:solidFill>
                <a:srgbClr val="4d4b4a"/>
              </a:solidFill>
              <a:latin typeface="Arial"/>
            </a:endParaRPr>
          </a:p>
          <a:p>
            <a:pPr lvl="1" marL="750960" indent="-285840">
              <a:spcBef>
                <a:spcPts val="700"/>
              </a:spcBef>
              <a:buClr>
                <a:srgbClr val="4d4b4a"/>
              </a:buClr>
              <a:buFont typeface="Arial"/>
              <a:buChar char="&gt;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b4a"/>
                </a:solidFill>
                <a:latin typeface="Arial"/>
              </a:rPr>
              <a:t>DB2 DPF bis zu 63% schneller</a:t>
            </a:r>
            <a:endParaRPr b="0" lang="en-US" sz="1800" spc="-1" strike="noStrike">
              <a:solidFill>
                <a:srgbClr val="4d4b4a"/>
              </a:solidFill>
              <a:latin typeface="Arial"/>
            </a:endParaRPr>
          </a:p>
          <a:p>
            <a:pPr lvl="1" marL="750960" indent="-285840">
              <a:spcBef>
                <a:spcPts val="700"/>
              </a:spcBef>
              <a:buClr>
                <a:srgbClr val="4d4b4a"/>
              </a:buClr>
              <a:buFont typeface="Arial"/>
              <a:buChar char="&gt;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b4a"/>
                </a:solidFill>
                <a:latin typeface="Arial"/>
              </a:rPr>
              <a:t>DB2 DPF durchschnittlich 34% schneller</a:t>
            </a:r>
            <a:endParaRPr b="0" lang="en-US" sz="1800" spc="-1" strike="noStrike">
              <a:solidFill>
                <a:srgbClr val="4d4b4a"/>
              </a:solidFill>
              <a:latin typeface="Arial"/>
            </a:endParaRPr>
          </a:p>
          <a:p>
            <a:pPr lvl="1" marL="750960" indent="0">
              <a:spcBef>
                <a:spcPts val="700"/>
              </a:spcBef>
              <a:buNone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162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706f6e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3268800"/>
            <a:ext cx="52164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6f6e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711440"/>
            <a:ext cx="412740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6f6e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348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706f6e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3348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706f6e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3348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706f6e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14560" y="149400"/>
            <a:ext cx="65530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Kundenbeispiel BW POC</a:t>
            </a:r>
            <a:endParaRPr b="0" lang="en-US" sz="3000" spc="-1" strike="noStrike">
              <a:solidFill>
                <a:srgbClr val="706f6e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3120" y="3048120"/>
            <a:ext cx="7861320" cy="3060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98600" y="1604880"/>
            <a:ext cx="808992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b4a"/>
                </a:solidFill>
                <a:latin typeface="Arial"/>
              </a:rPr>
              <a:t>Performance Steigerung nach Neuverteilung von 1 auf 10 Partitionen</a:t>
            </a:r>
            <a:endParaRPr b="0" lang="en-US" sz="2000" spc="-1" strike="noStrike">
              <a:solidFill>
                <a:srgbClr val="706f6e"/>
              </a:solidFill>
              <a:latin typeface="Times New Roman"/>
            </a:endParaRPr>
          </a:p>
          <a:p>
            <a:pPr lvl="1" marL="746280" indent="-285840">
              <a:lnSpc>
                <a:spcPct val="100000"/>
              </a:lnSpc>
              <a:spcBef>
                <a:spcPts val="451"/>
              </a:spcBef>
              <a:buClr>
                <a:srgbClr val="4d4b4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b4a"/>
                </a:solidFill>
                <a:latin typeface="Arial"/>
              </a:rPr>
              <a:t>Bessere Performance mit DB2 DPF</a:t>
            </a:r>
            <a:endParaRPr b="0" lang="en-US" sz="1800" spc="-1" strike="noStrike">
              <a:solidFill>
                <a:srgbClr val="706f6e"/>
              </a:solidFill>
              <a:latin typeface="Times New Roman"/>
            </a:endParaRPr>
          </a:p>
          <a:p>
            <a:pPr lvl="1" marL="746280" indent="-285840">
              <a:lnSpc>
                <a:spcPct val="100000"/>
              </a:lnSpc>
              <a:spcBef>
                <a:spcPts val="451"/>
              </a:spcBef>
              <a:buClr>
                <a:srgbClr val="4d4b4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b4a"/>
                </a:solidFill>
                <a:latin typeface="Arial"/>
              </a:rPr>
              <a:t>Bessere CPU und I/O Auslastung</a:t>
            </a:r>
            <a:endParaRPr b="0" lang="en-US" sz="1800" spc="-1" strike="noStrike">
              <a:solidFill>
                <a:srgbClr val="706f6e"/>
              </a:solidFill>
              <a:latin typeface="Times New Roman"/>
            </a:endParaRPr>
          </a:p>
          <a:p>
            <a:pPr lvl="1" marL="746280" indent="-285840">
              <a:lnSpc>
                <a:spcPct val="100000"/>
              </a:lnSpc>
              <a:spcBef>
                <a:spcPts val="451"/>
              </a:spcBef>
              <a:buClr>
                <a:srgbClr val="4d4b4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b4a"/>
                </a:solidFill>
                <a:latin typeface="Arial"/>
              </a:rPr>
              <a:t>22 von 23 Jobs schneller</a:t>
            </a:r>
            <a:endParaRPr b="0" lang="en-US" sz="1800" spc="-1" strike="noStrike">
              <a:solidFill>
                <a:srgbClr val="706f6e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06f6e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06f6e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06f6e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06f6e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06f6e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06f6e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06f6e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06f6e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06f6e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06f6e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06f6e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06f6e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149400"/>
            <a:ext cx="65530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Kundenbeispiel Performance</a:t>
            </a:r>
            <a:endParaRPr b="0" lang="en-US" sz="3000" spc="-1" strike="noStrike">
              <a:solidFill>
                <a:srgbClr val="706f6e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Fragen und Rückmeldungen sind willkommen.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Vielen Dank!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Stefan Krämer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-88682 Salem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http://www.skc-group.com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Reorgs in DB2 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b4a"/>
                </a:solidFill>
                <a:latin typeface="Arial"/>
              </a:rPr>
              <a:t>Tabellen suchen in DB2 V8 und V9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b4a"/>
                </a:solidFill>
                <a:latin typeface="Arial"/>
              </a:rPr>
              <a:t>Liste aller volatile tables: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b2 -x "select substr(tabschema,1,20), substr(tabname,1,30), </a:t>
            </a:r>
            <a:br>
              <a:rPr sz="2000"/>
            </a:b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volatile, npages, fpages, stats_time </a:t>
            </a:r>
            <a:br>
              <a:rPr sz="2000"/>
            </a:b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from syscat.tables </a:t>
            </a:r>
            <a:br>
              <a:rPr sz="2000"/>
            </a:b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where volatile = ‘C‘ order by tabname" </a:t>
            </a:r>
            <a:br>
              <a:rPr sz="2000"/>
            </a:b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&gt; /tmp/tabreo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Backup Slide – volatile tab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b4a"/>
                </a:solidFill>
                <a:latin typeface="Arial"/>
                <a:ea typeface="Arial"/>
              </a:rPr>
              <a:t>Table oder Index Reorg? 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b4a"/>
                </a:solidFill>
                <a:latin typeface="Arial"/>
                <a:ea typeface="Arial"/>
              </a:rPr>
              <a:t>SAP-BW Tabelle, ein Table Reorg kann den allokierten Platz im Tablespace freigeben.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d4b4a"/>
                </a:solidFill>
                <a:latin typeface="Arial monospaced for SAP"/>
              </a:rPr>
              <a:t>db2 "reorgchk current statistics on table sapr3.\"/BIC/B0003403000\" "</a:t>
            </a:r>
            <a:endParaRPr b="0" lang="en-US" sz="12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SCHEMA    NAME                  CARD    OV    NP    FP ACTBLK    TSIZE  F1  F2  F3 REORG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----------------------------------------------------------------------------------------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Table: SAPR3./BIC/B0003403000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SAPR3     /BIC/B0003403000         0     0     0 3e+06      -        0   0   0   0 -**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----------------------------------------------------------------------------------------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SCHEMA   NAME                 CARD  LEAF ELEAF  LVLS ISIZE  NDEL   KEYS  F4  F5  F6  F7  F8 REORG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-------------------------------------------------------------------------------------------------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Table: SAPR3./BIC/B0003403000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SAPR3    /BIC/B0003403000~0      -     -     -     -     -     -      -   -   -   -   -   - -----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-------------------------------------------------------------------------------------------------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d4b4a"/>
                </a:solidFill>
                <a:latin typeface="Arial monospaced for SAP"/>
              </a:rPr>
              <a:t>db2 "select substr(tabname,1,20), npages, fpages, card, stats_time from syscat.tables where tabname = '/BIC/B0003403000' "</a:t>
            </a:r>
            <a:endParaRPr b="0" lang="en-US" sz="12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1                    NPAGES      FPAGES      CARD                 STATS_TIME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-------------------- ----------- ----------- -------------------- --------------------------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/BIC/B0003403000               0     2988775                    0 2007-01-28-05.01.33.131887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twendigke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981000"/>
            <a:ext cx="8569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b4a"/>
                </a:solidFill>
                <a:latin typeface="Arial"/>
                <a:ea typeface="Arial"/>
              </a:rPr>
              <a:t>Table oder Index Reorg? </a:t>
            </a:r>
            <a:endParaRPr b="0" lang="en-US" sz="2400" spc="-1" strike="noStrike">
              <a:solidFill>
                <a:srgbClr val="706f6e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6f6e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b4a"/>
                </a:solidFill>
                <a:latin typeface="Arial"/>
                <a:ea typeface="Arial"/>
              </a:rPr>
              <a:t>Für diese Tabelle ist ein Index Reorg sehr wichtig ... Star Wars ...</a:t>
            </a:r>
            <a:endParaRPr b="0" lang="en-US" sz="1600" spc="-1" strike="noStrike">
              <a:solidFill>
                <a:srgbClr val="706f6e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6f6e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6f6e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b4a"/>
                </a:solidFill>
                <a:latin typeface="Arial monospaced for SAP"/>
              </a:rPr>
              <a:t>db2 reorgchk update statistics on table sapnaq.trfcqout</a:t>
            </a:r>
            <a:endParaRPr b="0" lang="en-US" sz="12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SCHEMA    NAME                  CARD    OV    NP    FP ACTBLK    TSIZE  F1  F2  F3 REORG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---------------------------------------------------------------------------------------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SAPNAQ    TRFCQOUT           5907945     0 4e+05 4e+05      - 1.45e+09   0  87  99 --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---------------------------------------------------------------------------------------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SCHEMA   NAME                 CARD  LEAF ELEAF  LVLS ISIZE  NDEL   KEYS  F4  F5  F6  F7  F8 REORG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------------------------------------------------------------------------------------------------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Table: SAPNAQ.TRFCQOUT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SAPNAQ   TRFCQOUT~0          6e+06 7e+05   728     6   111 8e+06  6e+06  48  23 566 100   0 ****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SAPNAQ   TRFCQOUT~1          6e+06 3e+05  1270     5    79 2e+05  6e+06  23  47  58   3   0 **--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SAPNAQ   TRFCQOUT~2          6e+06 2e+05   431     5    27 9e+06  6e+06  59  21 +++ 100   0 **-*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SAPNAQ   TRFCQOUT~3          6e+06 14728    62     4    56 2e+05    227  31  49  42   3   0 **--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SAPNAQ   TRFCQOUT~4          6e+06 3e+05  1158     5    89 2e+05  6e+06  23  46  38   3   0 **--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SAPNAQ   TRFCQOUT~5          6e+06 1e+05     0     4    35 2e+06  6e+06   6  49  10  25   0 **-*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SAPNAQ   TRFCQOUT~6          6e+06 14860    76     3    36 2e+05    224  31  48   1   3   0 **--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SAPNAQ   TRFCQOUT~Z01        6e+06 14031    72     3    36 2e+05    224  31  51   1   3   0 *---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------------------------------------------------------------------------------------------------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06f6e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4d4b4a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06f6e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14560" y="149400"/>
            <a:ext cx="65530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twendigkeit</a:t>
            </a:r>
            <a:endParaRPr b="0" lang="en-US" sz="3000" spc="-1" strike="noStrike">
              <a:solidFill>
                <a:srgbClr val="706f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907920"/>
            <a:ext cx="856908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b4a"/>
                </a:solidFill>
                <a:latin typeface="Arial"/>
                <a:ea typeface="Arial"/>
              </a:rPr>
              <a:t>Table oder Index Reorg?</a:t>
            </a:r>
            <a:r>
              <a:rPr b="1" lang="en-US" sz="2800" spc="-1" strike="noStrike">
                <a:solidFill>
                  <a:srgbClr val="4d4b4a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706f6e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706f6e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876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b4a"/>
                </a:solidFill>
                <a:latin typeface="Arial"/>
                <a:ea typeface="Arial"/>
              </a:rPr>
              <a:t>150000 Overflow Datensätze – weniger als 1% der Tabelle – F1</a:t>
            </a:r>
            <a:endParaRPr b="0" lang="en-US" sz="1400" spc="-1" strike="noStrike">
              <a:solidFill>
                <a:srgbClr val="706f6e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876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b4a"/>
                </a:solidFill>
                <a:latin typeface="Arial"/>
                <a:ea typeface="Arial"/>
              </a:rPr>
              <a:t>64% effektiv genutzer Platz in der Tabelle – F2</a:t>
            </a:r>
            <a:endParaRPr b="0" lang="en-US" sz="1400" spc="-1" strike="noStrike">
              <a:solidFill>
                <a:srgbClr val="706f6e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876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b4a"/>
                </a:solidFill>
                <a:latin typeface="Arial"/>
                <a:ea typeface="Arial"/>
              </a:rPr>
              <a:t>99% genutzte Pages – F3</a:t>
            </a:r>
            <a:endParaRPr b="0" lang="en-US" sz="1400" spc="-1" strike="noStrike">
              <a:solidFill>
                <a:srgbClr val="706f6e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876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b4a"/>
                </a:solidFill>
                <a:latin typeface="Arial"/>
                <a:ea typeface="Arial"/>
              </a:rPr>
              <a:t>Clusterratios sind alle unter 80% - F4 - und einige gelöschte Indexeinträge – F7 (&lt; 5%)</a:t>
            </a:r>
            <a:endParaRPr b="0" lang="en-US" sz="1400" spc="-1" strike="noStrike">
              <a:solidFill>
                <a:srgbClr val="706f6e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876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b4a"/>
                </a:solidFill>
                <a:latin typeface="Arial"/>
                <a:ea typeface="Arial"/>
              </a:rPr>
              <a:t>Reclustering ? Welcher Index ist der wichtigste?</a:t>
            </a:r>
            <a:endParaRPr b="0" lang="en-US" sz="1400" spc="-1" strike="noStrike">
              <a:solidFill>
                <a:srgbClr val="706f6e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06f6e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db2 reorgchk current statistics on table sapr3.nast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SCHEMA    NAME                  CARD    OV    NP    FP ACTBLK    TSIZE  F1  F2  F3 REORG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---------------------------------------------------------------------------------------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Table: SAPR3.NAST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SAPR3     NAST               2.3e+07 2e+05 8e+05 8e+05      - 8.05e+09   0  64  99 -*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---------------------------------------------------------------------------------------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SCHEMA   NAME                 CARD  LEAF ELEAF  LVLS ISIZE  NDEL   KEYS  F4  F5  F6  F7  F8 REORG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------------------------------------------------------------------------------------------------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Table: SAPR3.NAST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SAPR3    NAST~0              2e+07 2e+05     0     4    25 1e+06  2e+07  60  26 298   5   0 ***-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SAPR3    NAST~A              2e+07 13782     2     3    17 4e+05    933  79  50   6   1   0 **--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SAPR3    NAST~I              2e+07 77949     0     4    14 88723  2e+07  55  34 +++   0   0 **--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SAPR3    NAST~S              2e+07 15890     0     3    17 1e+06 334256  71  46   6   5   0 **--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SAPR3    NAST~Y01            2e+07 72907    32     3    18 82092  2e+07  55  48   1   0   0 **--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------------------------------------------------------------------------------------------------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06f6e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db2 "select substr(tabname,1,20), overflow, npages, fpages, card, stats_time from syscat.tables </a:t>
            </a:r>
            <a:br>
              <a:rPr sz="1000"/>
            </a:b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where tabname = 'NAST' "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1                    OVERFLOW    NPAGES      FPAGES      CARD                 STATS_TIME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-------------------- ----------- ----------- ----------- -------------------- --------------------------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NAST                      154033      768176      768206             22667744 2007-01-28-13.56.47.234415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4560" y="149400"/>
            <a:ext cx="65530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twendigkeit</a:t>
            </a:r>
            <a:endParaRPr b="0" lang="en-US" sz="3000" spc="-1" strike="noStrike">
              <a:solidFill>
                <a:srgbClr val="706f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907920"/>
            <a:ext cx="856908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b4a"/>
                </a:solidFill>
                <a:latin typeface="Arial"/>
                <a:ea typeface="Arial"/>
              </a:rPr>
              <a:t>Table oder Index Reorg? </a:t>
            </a:r>
            <a:endParaRPr b="0" lang="en-US" sz="2400" spc="-1" strike="noStrike">
              <a:solidFill>
                <a:srgbClr val="706f6e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6f6e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b4a"/>
                </a:solidFill>
                <a:latin typeface="Arial"/>
                <a:ea typeface="Arial"/>
              </a:rPr>
              <a:t>Reclustering ? Welcher Index ist der wichtigste?</a:t>
            </a:r>
            <a:endParaRPr b="0" lang="en-US" sz="1600" spc="-1" strike="noStrike">
              <a:solidFill>
                <a:srgbClr val="706f6e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b4a"/>
                </a:solidFill>
                <a:latin typeface="Arial"/>
                <a:ea typeface="Arial"/>
              </a:rPr>
              <a:t>Scans in den TableControlBlock Statistiken zeigt die Nutzung</a:t>
            </a:r>
            <a:endParaRPr b="0" lang="en-US" sz="1600" spc="-1" strike="noStrike">
              <a:solidFill>
                <a:srgbClr val="706f6e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b4a"/>
                </a:solidFill>
                <a:latin typeface="Arial"/>
                <a:ea typeface="Arial"/>
              </a:rPr>
              <a:t>Der Primärindex ist nicht immer der wichtigste für Range-Scans, aber ggf. im Zweifel bevorzugen.</a:t>
            </a:r>
            <a:endParaRPr b="0" lang="en-US" sz="1600" spc="-1" strike="noStrike">
              <a:solidFill>
                <a:srgbClr val="706f6e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6f6e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06f6e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db2 "select iid, substr(indname,1,20), substr(colnames,1,60) from syscat.indexes where tabname = 'NAST'"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b4a"/>
                </a:solidFill>
                <a:latin typeface="Arial monospaced for SAP"/>
              </a:rPr>
              <a:t>IID    2                    3</a:t>
            </a:r>
            <a:endParaRPr b="0" lang="en-US" sz="9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b4a"/>
                </a:solidFill>
                <a:latin typeface="Arial monospaced for SAP"/>
              </a:rPr>
              <a:t>------ -------------------- ------------------------------------------------------------</a:t>
            </a:r>
            <a:endParaRPr b="0" lang="en-US" sz="9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b4a"/>
                </a:solidFill>
                <a:latin typeface="Arial monospaced for SAP"/>
              </a:rPr>
              <a:t>     </a:t>
            </a:r>
            <a:r>
              <a:rPr b="0" lang="en-US" sz="900" spc="-1" strike="noStrike">
                <a:solidFill>
                  <a:srgbClr val="4d4b4a"/>
                </a:solidFill>
                <a:latin typeface="Arial monospaced for SAP"/>
              </a:rPr>
              <a:t>1 NAST~0               +MANDT+KAPPL+OBJKY+KSCHL+SPRAS+PARNR+PARVW+ERDAT+ERUHR</a:t>
            </a:r>
            <a:endParaRPr b="0" lang="en-US" sz="9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b4a"/>
                </a:solidFill>
                <a:latin typeface="Arial monospaced for SAP"/>
              </a:rPr>
              <a:t>     </a:t>
            </a:r>
            <a:r>
              <a:rPr b="0" lang="en-US" sz="900" spc="-1" strike="noStrike">
                <a:solidFill>
                  <a:srgbClr val="4d4b4a"/>
                </a:solidFill>
                <a:latin typeface="Arial monospaced for SAP"/>
              </a:rPr>
              <a:t>2 NAST~A               +MANDT+VSTAT+KAPPL+VSZTP+AKTIV+KSCHL+NACHA</a:t>
            </a:r>
            <a:endParaRPr b="0" lang="en-US" sz="9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b4a"/>
                </a:solidFill>
                <a:latin typeface="Arial monospaced for SAP"/>
              </a:rPr>
              <a:t>     </a:t>
            </a:r>
            <a:r>
              <a:rPr b="0" lang="en-US" sz="900" spc="-1" strike="noStrike">
                <a:solidFill>
                  <a:srgbClr val="4d4b4a"/>
                </a:solidFill>
                <a:latin typeface="Arial monospaced for SAP"/>
              </a:rPr>
              <a:t>3 NAST~I               +MANDT+KAPPL+KSCHL+OBJKY+AKTIV</a:t>
            </a:r>
            <a:endParaRPr b="0" lang="en-US" sz="9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b4a"/>
                </a:solidFill>
                <a:latin typeface="Arial monospaced for SAP"/>
              </a:rPr>
              <a:t>     </a:t>
            </a:r>
            <a:r>
              <a:rPr b="0" lang="en-US" sz="900" spc="-1" strike="noStrike">
                <a:solidFill>
                  <a:srgbClr val="4d4b4a"/>
                </a:solidFill>
                <a:latin typeface="Arial monospaced for SAP"/>
              </a:rPr>
              <a:t>4 NAST~S               +MANDT+SORT1+SORT2+SORT3+AKTIV+VSTAT+VSZTP</a:t>
            </a:r>
            <a:endParaRPr b="0" lang="en-US" sz="9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b4a"/>
                </a:solidFill>
                <a:latin typeface="Arial monospaced for SAP"/>
              </a:rPr>
              <a:t>     </a:t>
            </a:r>
            <a:r>
              <a:rPr b="0" lang="en-US" sz="900" spc="-1" strike="noStrike">
                <a:solidFill>
                  <a:srgbClr val="4d4b4a"/>
                </a:solidFill>
                <a:latin typeface="Arial monospaced for SAP"/>
              </a:rPr>
              <a:t>5 NAST~Y01             +MANDT+VSTAT+KAPPL+AKTIV+KSCHL+OBJKY+VSZTP</a:t>
            </a:r>
            <a:endParaRPr b="0" lang="en-US" sz="9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b4a"/>
                </a:solidFill>
                <a:latin typeface="Arial monospaced for SAP"/>
              </a:rPr>
              <a:t>  </a:t>
            </a:r>
            <a:r>
              <a:rPr b="0" lang="en-US" sz="900" spc="-1" strike="noStrike">
                <a:solidFill>
                  <a:srgbClr val="4d4b4a"/>
                </a:solidFill>
                <a:latin typeface="Arial monospaced for SAP"/>
              </a:rPr>
              <a:t>5 record(s) selected.</a:t>
            </a:r>
            <a:endParaRPr b="0" lang="en-US" sz="900" spc="-1" strike="noStrike">
              <a:solidFill>
                <a:srgbClr val="706f6e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b4a"/>
                </a:solidFill>
                <a:latin typeface="Arial monospaced for SAP"/>
              </a:rPr>
              <a:t>db2pd -db $sid -tcbstats all | egrep "TableN|NAST" | awk '{ print $4 " " $6 " " $11 }'</a:t>
            </a:r>
            <a:endParaRPr b="0" lang="en-US" sz="10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b4a"/>
                </a:solidFill>
                <a:latin typeface="Arial monospaced for SAP"/>
              </a:rPr>
              <a:t>TableName IID Scans</a:t>
            </a:r>
            <a:endParaRPr b="0" lang="en-US" sz="9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b4a"/>
                </a:solidFill>
                <a:latin typeface="Arial monospaced for SAP"/>
              </a:rPr>
              <a:t>NAST 5 43573</a:t>
            </a:r>
            <a:endParaRPr b="0" lang="en-US" sz="9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b4a"/>
                </a:solidFill>
                <a:latin typeface="Arial monospaced for SAP"/>
              </a:rPr>
              <a:t>NAST 4 1</a:t>
            </a:r>
            <a:endParaRPr b="0" lang="en-US" sz="9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b4a"/>
                </a:solidFill>
                <a:latin typeface="Arial monospaced for SAP"/>
              </a:rPr>
              <a:t>NAST 3 148660</a:t>
            </a:r>
            <a:endParaRPr b="0" lang="en-US" sz="9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b4a"/>
                </a:solidFill>
                <a:latin typeface="Arial monospaced for SAP"/>
              </a:rPr>
              <a:t>NAST 2 22052</a:t>
            </a:r>
            <a:endParaRPr b="0" lang="en-US" sz="900" spc="-1" strike="noStrike">
              <a:solidFill>
                <a:srgbClr val="706f6e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b4a"/>
                </a:solidFill>
                <a:latin typeface="Arial monospaced for SAP"/>
              </a:rPr>
              <a:t>NAST 1 808299</a:t>
            </a:r>
            <a:endParaRPr b="0" lang="en-US" sz="900" spc="-1" strike="noStrike">
              <a:solidFill>
                <a:srgbClr val="706f6e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14560" y="149400"/>
            <a:ext cx="65530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twendigkeit</a:t>
            </a:r>
            <a:endParaRPr b="0" lang="en-US" sz="3000" spc="-1" strike="noStrike">
              <a:solidFill>
                <a:srgbClr val="706f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3640" y="83664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b4a"/>
                </a:solidFill>
                <a:latin typeface="Arial"/>
              </a:rPr>
              <a:t>Andere</a:t>
            </a:r>
            <a:r>
              <a:rPr b="0" lang="de-DE" sz="2800" spc="-1" strike="noStrike">
                <a:solidFill>
                  <a:srgbClr val="4d4b4a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4d4b4a"/>
                </a:solidFill>
                <a:latin typeface="Arial"/>
              </a:rPr>
              <a:t>Gründe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Laufzeitprobleme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SQL Ausführungspläne können sich ändern: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b4a"/>
                </a:solidFill>
                <a:latin typeface="Arial"/>
              </a:rPr>
              <a:t>Durch zu hohe Fragmentierung und die Grösse in manchen Indexen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b4a"/>
                </a:solidFill>
                <a:latin typeface="Arial"/>
              </a:rPr>
              <a:t>Bei schlechten Clusterratios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7601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b4a"/>
                </a:solidFill>
                <a:latin typeface="Arial"/>
              </a:rPr>
              <a:t>In einigen Fällen selbst bei geringer Anzahl pseudo gelöschter Zeiger (NDEL).</a:t>
            </a:r>
            <a:endParaRPr b="0" lang="en-US" sz="16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B2 V9 Deep Kompression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B2 V9 LRID Aktivierung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twendigkeit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8569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b4a"/>
                </a:solidFill>
                <a:latin typeface="Arial"/>
              </a:rPr>
              <a:t>Laufzeit Beispiel</a:t>
            </a: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4d4b4a"/>
                </a:solidFill>
                <a:latin typeface="Arial"/>
                <a:ea typeface="Arial"/>
              </a:rPr>
              <a:t>Vor Reorgs:</a:t>
            </a:r>
            <a:endParaRPr b="0" lang="en-US" sz="12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ddadb204:db2ox2&gt; time db2 "select * from sapr3.V_VMVAH where mandt = '132' and KKBER = '0030' ... 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real    0m0.33s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ddadb204:db2ox2&gt; time db2 "select * from sapr3.V_VMVAH where mandt = '132' and KKBER = '0030' ...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real    0m0.32s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ddadb204:db2ox2&gt; time db2 "select * from sapr3.V_VMVAH where mandt = '132' and KKBER = '0030' ...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real    0m0.31s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4d4b4a"/>
                </a:solidFill>
                <a:latin typeface="Arial"/>
                <a:ea typeface="Arial"/>
              </a:rPr>
              <a:t>Nach einem Index Reorg auf den betroffenen Tabellen:</a:t>
            </a:r>
            <a:endParaRPr b="0" lang="en-US" sz="12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after reorg: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ddadb204:db2ox2&gt; time db2 "Select * from sapr3.V_VMVAH where mandt = '132' and KKBER = '0030' ...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real    0m0.04s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ddadb204:db2ox2&gt; time db2 "Select * from sapr3.V_VMVAH where mandt = '132' and KKBER = '0030' ...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real    0m0.03s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ddadb204:db2ox2&gt; time db2 "Select * from sapr3.V_VMVAH where mandt = '132' and KKBER = '0030' ...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d4b4a"/>
                </a:solidFill>
                <a:latin typeface="Arial monospaced for SAP"/>
              </a:rPr>
              <a:t>real    0m0.03s</a:t>
            </a: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4d4b4a"/>
                </a:solidFill>
                <a:latin typeface="Arial"/>
                <a:ea typeface="Arial"/>
              </a:rPr>
              <a:t>Performance Faktor 10? Der Einfluß auf Cpu und ggf. Speicher ist vorstellbar.</a:t>
            </a:r>
            <a:endParaRPr b="0" lang="en-US" sz="1200" spc="-1" strike="noStrike">
              <a:solidFill>
                <a:srgbClr val="4d4b4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4d4b4a"/>
                </a:solidFill>
                <a:latin typeface="Arial"/>
                <a:ea typeface="Arial"/>
              </a:rPr>
              <a:t>NB Der SQL Ausführungsplan war unverändert.</a:t>
            </a:r>
            <a:endParaRPr b="0" lang="en-US" sz="12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Reorgs in DB2 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3640" y="1125360"/>
            <a:ext cx="85690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B2 V8 FP14 – hier sind viele Bugfixes enthalten die mit Reorgs auftreten konnten – oder DB2 V9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Freie Systemresourcen: CPU, I/O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Tabellenstatistiken sind aktuell (Vorsicht bei "volatile" Tabellen)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Genügend freier Speicherplatz: im gleichen Tablespace oder in einem temporären Tablespace und Filesystemen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DB2 Autoresize für alle Tablespaces einschalten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7601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b4a"/>
                </a:solidFill>
                <a:latin typeface="Arial"/>
              </a:rPr>
              <a:t>Genügend Platz in DB2 Transaction Logs, NUM_LOG_SPAN und MAX_LOG, insbesondere bei Reorgs im laufenden Betrieb</a:t>
            </a:r>
            <a:endParaRPr b="0" lang="en-US" sz="2000" spc="-1" strike="noStrike">
              <a:solidFill>
                <a:srgbClr val="4d4b4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114200" y="149040"/>
            <a:ext cx="6553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oraussetzung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12:09:15Z</dcterms:created>
  <dc:creator/>
  <dc:description/>
  <dc:language>en-US</dc:language>
  <cp:lastModifiedBy> </cp:lastModifiedBy>
  <dcterms:modified xsi:type="dcterms:W3CDTF">2007-02-10T11:14:11Z</dcterms:modified>
  <cp:revision>217</cp:revision>
  <dc:subject/>
  <dc:title>PowerPoint-Präsentation</dc:title>
</cp:coreProperties>
</file>